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217-1140-48EE-9DDE-6E6D96F5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C80-C4FB-4945-908E-86BC40C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099-9FC3-4FD1-AB0D-B0DC79E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E19-0EAA-421E-AB67-479836DF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1FA-B069-4306-8C73-100D1D9A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C7C-BEEC-4893-A812-16CF73D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E86A-0E2E-4E8D-B604-0657B54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F3FA-A1BC-49BB-95FE-0A9BFAC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9DB-D314-480A-9A2A-AE69FCD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9B4E-2418-48FD-970D-54C837A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546-F096-4C9D-A67B-617E36B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623-65CA-48C2-B2C9-333C171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46A7-C190-4BD4-824E-0C067A6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3665-9B48-413E-B77E-05D7937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BAD0-4133-4E8B-BFFF-1871970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6428-B34C-4D46-A305-59AF734F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382-0D5B-406C-AB42-ED827923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4ED-CAFE-400B-8D41-5CC1E37E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F10-27D7-4447-9DDB-5C1ACA1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59D-4AC1-486D-8264-1A5FB47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FEA-31C5-40DB-B33C-DBA6E83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21D-75AD-45AB-BB0D-0797A15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237-3F9F-4B81-A2EC-575CC9A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1BC-22BB-4DAA-AF7C-B96C7ED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FCB5-00DB-4D3D-B790-B134D3A3AF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902D-1E8B-456F-9160-6BA30E5EFF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OLNO PRENOSIVE BOLEST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emećaji koji se šire uglavnom polnim kontaktom, ali se ne može isključiti ni blizak kontakt druge vrs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ffcc"/>
                </a:solidFill>
                <a:latin typeface="Tahoma"/>
              </a:rPr>
              <a:t>Condylomata l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apularni sifilidi, na periferiji vulve i an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ke, sunđeraste građe, sa ravnim vrhom i širokom baz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erozije na njima sa eksudacijom veoma infektivnog ser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ukozne naslage istovremeno sa makulopapularnim lezijama 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a egzacerbacijama i remisijama sekundarni sifilis traje 9-12 meseci i nestaju klinički zna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rolološki testovi pozitiv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atencija različitog traj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IJE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nje od 1/3 progredira u treći stadij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stali u latenciji tokom čitavog živ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staje 3-20 godina nakon primarn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vidu guma, kardiovaskularnih poremećaja i neurosifil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gum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je granulom sa infiltracijom limfocitima i mononuklea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kasnom stadijumu kao psorijarizoformne lezije, ulcerišu kroz kož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Dg i 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kroskopski pregledi na tamnom polju uzoraka sa le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erološki, obavezno ih kombinov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nicillini ili tetracik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Šankroid – </a:t>
            </a:r>
            <a:r>
              <a:rPr b="0" i="1" lang="sr-Latn-CS" sz="4400" spc="-1" strike="noStrike">
                <a:solidFill>
                  <a:srgbClr val="ffffcc"/>
                </a:solidFill>
                <a:latin typeface="Tahoma"/>
              </a:rPr>
              <a:t>ulcus mo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kutna seksualno prenosiva i sve češća bo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ram-neg </a:t>
            </a:r>
            <a:r>
              <a:rPr b="0" i="1" lang="sr-Latn-CS" sz="2400" spc="-1" strike="noStrike">
                <a:solidFill>
                  <a:srgbClr val="ffffff"/>
                </a:solidFill>
                <a:latin typeface="Tahoma"/>
              </a:rPr>
              <a:t>haemophylus ducreyi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inkubacija 3-10 d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jedinačne, male osetljive papule, pokidaju se 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staju bolne, neindurirane ulceracije, okružene inflamatornim prsten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bilna, zarazna, smrdljiva sekre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polnim usnama, zadnjoj komisuri, perineumu i perianal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ogu i u vagini i na cervix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često ingvinalni adenitis, može aps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g. izolacija hemofilusa iz ulceracija ili gno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h. eritromicin ili sulfonamidi 7-10 d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RANULOMA INGVINALE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ili Donovanioza – </a:t>
            </a:r>
            <a:r>
              <a:rPr b="0" i="1" lang="sr-Latn-CS" sz="3200" spc="-1" strike="noStrike">
                <a:solidFill>
                  <a:srgbClr val="ffffcc"/>
                </a:solidFill>
                <a:latin typeface="Tahoma"/>
              </a:rPr>
              <a:t>calimatobacterium granulomatis (G - 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tropskim i suptropskim prede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7-30d, papularne i nodularne lezije na vulvi, perineu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ža iznad puca, meka granulirana ulceracija koja se ši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lceracije bezbolne i či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tetraciklini, streptomicin, ampici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LIMFOGRANULOMA VENERUM, </a:t>
            </a:r>
            <a:r>
              <a:rPr b="0" lang="sr-Latn-CS" sz="2800" spc="-1" strike="noStrike">
                <a:solidFill>
                  <a:srgbClr val="ffffcc"/>
                </a:solidFill>
                <a:latin typeface="Tahoma"/>
              </a:rPr>
              <a:t>poseban serotip </a:t>
            </a:r>
            <a:r>
              <a:rPr b="0" i="1" lang="sr-Latn-CS" sz="2800" spc="-1" strike="noStrike">
                <a:solidFill>
                  <a:srgbClr val="ffffcc"/>
                </a:solidFill>
                <a:latin typeface="Tahoma"/>
              </a:rPr>
              <a:t>chlamidie trachomatis</a:t>
            </a: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češća je u tropskim obla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od nekoliko dana do tri nedel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ezbolne papule ili vezikule, brzo zarasta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imfadenopatija, nekoliko nedelja kasnije, bolni tumori, česte fistule,sporo zara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orektakni sindrom i genitalna elefantija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Tetraciklini i sulfonam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RUSNE polno prenosive bole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luskum kontagioz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umani papiloma vir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IV – virus humane imunodeficijen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epatitis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itomegalo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Moluskum kontagioz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pada samo pločasto slojevit epi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dtipovi su MCV I i MCV II POX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 15g a i u zrelom dobu posebno kod AIDS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2 do 6 nede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latke poluloptaste papule 2-5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že spontana rezol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riotera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Herpes simplex virus, jedna od najčešćih sex prenosivih bole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eoma zarazna, 75% partnera se zarazi. Oko 85% HSV2, ostalo HSV1 (na l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kubacija 3-7 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 velikim i malim usnama, zadnjoj komisuri, perineumu i an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eckanje i svrab, povišena t, malaksalost, drhtavica, limfadenopatija, vezikule, ulcer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kurentna, veoma zaraz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ciclovir oralno, lokalna higijena, analge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HPV - epiteliotropni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eko 100 tipova, kožu i mukozn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i grupe: mukokutani, izazivači verukoformne epidermodisplazije, anogenital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kubacija od jednog meseca do tri go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dve trećine infekcija spontano nestaje za 2. 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iljasti kondilomi (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condylomata accumin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) ima i ravn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mplikacije HPV – premaligne i maligne pr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lno u tkivu, pa sklonost recidiv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rioterapija, laser, podofilin, konizacija, 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ksualno prenosive bolesti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radicional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onore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ifi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ankroid (ulcus mo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limfogranuloma venerum (L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ranuloma ingvinale (Donovanioz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širena lista mikroorganiza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itomegalo-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erpes simplex tip I i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lamidija trahoma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reptokok grupe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oluskum kontagioz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šu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irusi hepatit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Pedikulosis pubis (vašljivos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Phthirius pub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Inkubaija 3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Peckanje i svr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Česte sekundarne piogene infek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Losion sa 0,5% malationa, iskuvavanje ode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Trihomonijaz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tozoa, Trichomonas vaginalis,  inkubacija 4-2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50% asimptomatski, zato Th oba partn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, pečenje, žuto zeleni smrdljivi, penušavi sekret iz va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tronidaz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Kandidijaz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ff"/>
                </a:solidFill>
                <a:latin typeface="Tahoma"/>
              </a:rPr>
              <a:t>candida albican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gljivica, vulvovagin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uritis, dispareunija, dizurija, pojačan vaginalni sek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50% reinfekcija, 45% u trudnoć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oralno flukonazol i vaginal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Bakterijske vaginoze B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mikrobna anaerobna in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nje Dedlerovih laktobacila, više raznih mikroorganiz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na VS sa neprijatnim mirisom, a pH veći od 4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mselovi kriterijumi za dijagn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h. Metronidaz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Ostale infekcije vul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specifične bakterijske infekcije stafilokokom i streptokok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ca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uberkul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poras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ven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ži se adekvatna th i vak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ONOREJA – </a:t>
            </a:r>
            <a:r>
              <a:rPr b="0" i="1" lang="sr-Latn-CS" sz="4000" spc="-1" strike="noStrike">
                <a:solidFill>
                  <a:srgbClr val="ffffcc"/>
                </a:solidFill>
                <a:latin typeface="Tahoma"/>
              </a:rPr>
              <a:t>neisseria gonorrhoeae, </a:t>
            </a: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gram negativna ko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9996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dna od najčešćih infe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erv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retra 7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ktum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Polovina asimptomatsk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izu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ritacija vul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lago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na vaginalna sekrecija-mukopurulen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kutni gonokokni vul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artolin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Kod asimptomatskih se može razviti sistemska infekcija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(nepoznat je razlog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artralg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ndosino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rmat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 može i endokarditis, meningitis, konjuktiv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teža komplikacija je salping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htalmia neonatorum (u porođaj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ap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nici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ephalospor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etracik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Tahoma"/>
              </a:rPr>
              <a:t>SIFILIS </a:t>
            </a:r>
            <a:r>
              <a:rPr b="0" i="1" lang="sr-Latn-CS" sz="4000" spc="-1" strike="noStrike">
                <a:solidFill>
                  <a:srgbClr val="ffffcc"/>
                </a:solidFill>
                <a:latin typeface="Tahoma"/>
              </a:rPr>
              <a:t>treponema palidum ili spirohaeta palli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irektan kontakt zbog neotpornosti u spoljnjoj sre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kubacija od 10 do 90 d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ajzarazniji u prvim mesecima ali može i pet godina ako se ne le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akula → pap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 zatim ulceracija to je 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primarni šank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ndurirana, bezbolna, ovalnog oblika sa tamno crvenom osnov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že ih biti više, uglavnom na velikim usnama, ređe na malim a samo 5% na cervix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dem labija sa regionalnim uvećanjem limfnih žlezda za nekoliko nede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žlezde su čvrste, bezbolne i glat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ez terapije prvi stadijum traje 3-8 nede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KUNDARNI SIFIL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 slučaju da se ne leči, odbrambeni mehanizmi eliminišu delimično primarni šank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muni odgovor je nedovoljan za izlečenje. Za 4-6 nedelja nastaje septikemija i to je sekundarni 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labost, t ↑, lezije kože i mukoznih membrana, generalizovani limfaden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a vulvi bradavičaste erupcije- </a:t>
            </a:r>
            <a:r>
              <a:rPr b="0" i="1" lang="sr-Latn-CS" sz="2800" spc="-1" strike="noStrike">
                <a:solidFill>
                  <a:srgbClr val="ffffff"/>
                </a:solidFill>
                <a:latin typeface="Tahoma"/>
              </a:rPr>
              <a:t>condylomata lat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naslage na mukoz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spa je makularna, papularna, papulo-skvamozna ili pustular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2:58:05Z</dcterms:created>
  <dc:creator> </dc:creator>
  <dc:description/>
  <dc:language>en-US</dc:language>
  <cp:lastModifiedBy>User</cp:lastModifiedBy>
  <dcterms:modified xsi:type="dcterms:W3CDTF">2013-11-14T22:23:32Z</dcterms:modified>
  <cp:revision>3</cp:revision>
  <dc:subject/>
  <dc:title>POLNO PRENOSIVE BOLESTI </dc:title>
</cp:coreProperties>
</file>