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FFC-D3AF-437E-83C3-A4E66A69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AC4-5A51-4E01-BB16-C02039AC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CF7-D869-4EF1-BD0D-C693C4AC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3DA-C977-41EB-AD87-B2151F20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832AF-4497-4450-8071-A97BF349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8868A-2F6F-4699-BCDF-47825924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006D1-7DC1-4604-B972-9C8BC639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BB95F-A22A-47BA-9470-87CC250A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D83C8-C9FD-4D76-A608-3837A1FA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DE2D6-D49B-4D60-9A69-A1FA684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8FFF6-55B6-4374-AC3E-980A1873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EBD-EDCF-43BC-9A39-5AD53F5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7A55D-1CD9-4A71-A0B8-0253D83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FBD6F-3CC5-49BE-9DF7-0F99D26E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CAEE5-D93E-453B-A4A7-4220AFB7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9B618-4BCF-489D-8150-CD845A7E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6A446-B6F6-4C3E-8C34-8CB0ABE1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E71-4CE3-4887-B607-AAB911C9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07C-24D8-4FEE-BB91-5869CD2D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F62-CC3B-4D3D-B5D0-BB509C63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BA5-B2E5-41E0-BABB-1A103616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169-836B-42B8-9F37-E64AB6A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7FB-9DE1-4D29-8A19-9F3A4B5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948-AD86-46C8-A53B-27755E2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878F-22FA-479E-A42E-B76B76B316AF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89C1-45F3-40C7-89A3-C1C1E392A3A1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ELVEOPERITONITIS GENITALNOG POREK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edstavlja zapaljenje dela parijetalnog i visceralnog peritoneuma koji oblaže zid i pokriva organe male karl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Terapija je prvenstveno </a:t>
            </a:r>
            <a:r>
              <a:rPr b="0" lang="sr-Latn-CS" sz="4000" spc="-1" strike="noStrike">
                <a:solidFill>
                  <a:srgbClr val="ff0066"/>
                </a:solidFill>
                <a:latin typeface="Tahoma"/>
              </a:rPr>
              <a:t>konzervativ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ospitalizacija i mirovanje u postel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Led na donjem delu trbu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ntibiotici širokog spektra i kortikostero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ntipiretici i analget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ajna infuzija zbog nadoknade elektro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d gnoja u Duglasu - kolpoto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HRONIČNI PELVEOPERITONIT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aostali inkapsulirani patološki eksud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eritubarni hematomi i retrouterina hematokela kod ektopične trudnoć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orkvacije ovarijalnih tu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ndometrioz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dhezije, posebno posle hirurških oper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osledice adhezija su bolovi i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iksirana retrofleksija 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uterus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, dispareunija, dismenore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prolaznost 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jajovod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sa sterilitetom i ektopičnom trudnoć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licistična degeneracija 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jaj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bog sraslina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 rektuma,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težana defek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povoljan uticaj na 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psihičko s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Terapija: uporna i dugotraj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ntibioti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especifična nadražajna terapija, poliflamin, autohemoterap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ratkotalasna dijatermija (KT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elioterapija, talasoterap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aginalna orošava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anjska terap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irurška terapija (radikalna i konzervativ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Apsces Duglasovog prosto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kupljanje gnoja u najdubljem delu trbušne šupljine, najčešće posle pelveoperitonitisa, ruptura gnojnih tumora, zagnojene retrouterine hematokele, neginekološkog oboljenja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Simp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Loše opšte s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aki bolovi u donjem delu trbu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Visoka temperatura, drhtavica, ubrzani puls, malaksalost, opstip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itisak na debelo crevo, tenezmi i sluzavi prol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težano mokre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iff. Dijagnoz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bostrani piosalpinksi, srasli i fiksirani u Duglasovom prost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arametrički apsces – leži ekstraperitonealno i širi se lepezasto do karličnih kosti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orkvirani ovarijalni tum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ndometri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trofleksio uteri fiks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Lečenje apscesa u Duglas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unkcija Duglasovog pros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od ok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od kontrolom prsti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adnja kolpoto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bilna konzervativna terapija kao kod pelveoperitoniti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utevi infekcij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) ASCENDENT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utem sluzokoža, kanalikularno;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vagina, cervix, endometrijum, salpin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Limfnim sudovima; 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endometritis, myometritis, parametritis, perimet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) DESCENDENTNI; 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perityphlitis, appendicitis, diverticu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) HEMATOGENI; 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T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Uzročnici infekc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treptoko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tafiloko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Escherichia 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Gonoko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acili T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Clostrid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ot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lebsie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Akutni gonokokni pelveoperitonit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fekcija nastaje polnim pu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rzo međusobno slepljivanje organa male karl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lativno dobra progn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terilit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Akutni gonokokni pelveoperitonit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imptom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Buran počet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Trajni bolovi i jaka osetljivost donjeg dela trbušnog zida (defense muscula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Visoka tempera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Ubrzan pu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Muka, štucanje i povrać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erapi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Energična antibioterap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Akutni pelveoperitonitis izazvan banalnim gnojnim bakterija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28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ma ozbiljniji tok i manje povoljnu prognozu od gonokoknog, jer zapaljenje pokazuje tendenciju da se proširi na trbušnu duplju i ceo peritoneum. Ipak je prognoza quoad vitam do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Najčešći unos infekcije je nesterilnim instrumenti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Kriminalni pobačaj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rteficijalni prekidi trudnoće , sondiranja materice i eksplorativne kiretaž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uerperalne infekcij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Biopsije, polipektomije, elektrokoagulacija, konizacija, amputacija, dilatac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SG i insuflacija jajovo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ishodnim putem i per continuitatem – appendicitis, pyosalpinx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erforatio uteri violen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ostoperativno zbog povreda creva ili m. beši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Simptomatologij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olovi u donjem delu trbu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Štucanje, povraćanje i mučn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Visoka temperatura – preko 39 stepe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itan i ubrzan pu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pstip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aka osetljivost donjeg dela trbuha pri pregledu, kao i jak bol pri pokretanju cervi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iferencijalna dijagnoz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ppendic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erforacija crevnog divertikulu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orkvirani ovarijalni tum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kroza subseroznih mi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aematocoella retrouter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8:22:23Z</dcterms:created>
  <dc:creator>Goran</dc:creator>
  <dc:description/>
  <dc:language>en-US</dc:language>
  <cp:lastModifiedBy>Goran</cp:lastModifiedBy>
  <dcterms:modified xsi:type="dcterms:W3CDTF">2005-11-07T20:50:01Z</dcterms:modified>
  <cp:revision>4</cp:revision>
  <dc:subject/>
  <dc:title>PELVEOPERITONITIS GENITALNOG POREKLA</dc:title>
</cp:coreProperties>
</file>